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C40E-7947-47A6-A4A9-02C55D2E88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1 hr: speaking 1 – 10 mins; grammar – 15 mins; reading – 15 mins; speaking 2 – 2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5683-A3CB-408A-BC9C-0464BC3235F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all true except 2 (voting is not mandatory in Germ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7658-873C-4C0F-9DF4-E464CD33176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understanding of structures with concept questions and drill where necessary. Then allow learners to discuss and note down errors for post 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30F6-B910-447E-A7D6-6F3772CAD02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print out the article, or get learners to read it online. If reading a paper copy, learners could underline or highlight all the points they want to rem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F349-BC45-4E17-8213-AC2DEE0AD3E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leave the compulsory/optional language on the board/wall for learners to refer to. If time, re-pair learners so they can repeat the argument with different partners. Monitor for errors and note them down for post task erro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t learners tell each other at the end which arguments they really do agree wi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ADAD-D571-4EFD-804D-34799B03AA5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D9F-2D00-4CDD-A4EE-A9FB836C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9FE-1090-4B19-80E0-2380A233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8B4-F419-4FC0-B064-B45BF0ED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171-DF59-49D3-807B-C45972BD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BDB-AD00-4FAE-B35A-33657B06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194-039F-49CD-A64A-AEF774D2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14B-CC1E-4CA2-ACB4-BE73AEDD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24C-7E3F-476A-BDA2-D26635B1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49D-B246-47BE-A8D3-17E1294D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81D-461A-4D57-9DA3-2668B25A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F81-D6BF-4152-B179-B2B981C2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143-2AFB-4CEB-AB74-2D3AFE01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4EBB-8155-4965-AB45-9CDCADFE756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Is_it_a_good_idea_to_say_that_everyone_must_vote%3F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int.org/sections/argument/2015/03/18/uri-220.jp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ffffff"/>
                </a:solidFill>
                <a:latin typeface="Calibri"/>
              </a:rPr>
              <a:t>Voting</a:t>
            </a:r>
            <a:endParaRPr b="0" lang="en-US" sz="1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24000" y="4437000"/>
            <a:ext cx="48956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NEW INTERNATIONALIST  EASIER ENGLISH INTERMEDIATE READY LESS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601668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4920" y="3933720"/>
            <a:ext cx="37958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Grammar – 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how to say things are optional and compulsor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peaking – </a:t>
            </a: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about voting in different countries, and if voting should be compulsory or n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Reading – </a:t>
            </a: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an argu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rue or false? - general elections?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the UK, voting is optiona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veryone has to vote in German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only vote if you want to in Fran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ing is compulsory in Brazil if you’re between 18 and 70, but you can vote if you like if you’re 16, 17 or over 70 (if you are literate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are fined if you don’t vote in some countr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must vote in Australia because it’s mandator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don’t have a choice whether to vote or not in Argentin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at do you notice about the underlined language?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the UK, vo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s optional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veryon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has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German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only vote if you want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Fran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s compulsory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Brazil if you’re between 18 and 70, but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you can vote if you like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f you’re 16, 17 or over 70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are fined if you don’t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some countr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must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vote in Australia becaus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t’s mandatory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don’t have a choice whether to vote or not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Argentin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don’t have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Spa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Discuss your country and other countries – which do you think is bes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1600200"/>
            <a:ext cx="4244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s compuls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have to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veryone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has to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are fined if you don’t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must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s mandat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don’t have a choice whether to vote or n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is optio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only vote if you want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can vote if you li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don’t have to 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Read this article: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“Is it a good idea to make everyone vote?”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roup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– find all th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YES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rguments                       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roup </a:t>
            </a: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B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– find all the </a:t>
            </a: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NO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rgu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http://eewiki.newint.org/index.php/Is_it_a_good_idea_to_say_that_everyone_must_vote%3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308720" y="549360"/>
            <a:ext cx="163692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7277040" y="3141720"/>
            <a:ext cx="16239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Now divide into pairs – A&amp;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413000"/>
            <a:ext cx="41716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A –     you think voting should be compulsory – try to persuade B with all the reasons you found in the tex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413000"/>
            <a:ext cx="4171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B – you think voting should be optional – try to persuade A with all the arguments you found in the tex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Homework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077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Choice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Reading</a:t>
            </a: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: read the original argument: </a:t>
            </a:r>
            <a:r>
              <a:rPr b="0" lang="en-GB" sz="40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http://www.newint.org/sections/argument/2015/03/18/uri-220.jp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or (and?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Writing</a:t>
            </a: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: write an article for a magazine about what you really think: “Should voting be compulsory?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227640" y="115920"/>
            <a:ext cx="27133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5:10:39Z</dcterms:created>
  <dc:creator>Linda Ruas</dc:creator>
  <dc:description/>
  <dc:language>en-US</dc:language>
  <cp:lastModifiedBy>Linda Ruas</cp:lastModifiedBy>
  <dcterms:modified xsi:type="dcterms:W3CDTF">2015-04-23T16:09:06Z</dcterms:modified>
  <cp:revision>7</cp:revision>
  <dc:subject/>
  <dc:title>Voting</dc:title>
</cp:coreProperties>
</file>